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D63-8E7E-4847-B4FD-5C411E5D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177-FB34-405F-A52E-FB3CD7D3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DD669-EC70-482E-8BF2-06BAEA0C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7A3E8-4813-4B6C-AC88-DCDAC41E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5635B-A049-4315-9CE5-EE45401D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C1ACE-81C1-42C0-9B74-EB719AF4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7FB4A-42BD-4554-86DE-51CDE222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EAEE6-B857-4A16-A185-53B8CB5A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389F1-D690-4C31-8670-A3412401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62672-3430-48F7-83C0-28C86F28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40320-6FE5-4AB7-B670-12F7420C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20239-4D04-4274-8DA4-31C46D22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285-E4E4-4B0D-BEF1-34554025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33B2C-AC72-4214-BA3D-F289B7DB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2FA53-64D4-4B39-936F-120F5CA1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549F3-613C-487F-AAE4-72A17BC7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73FD9-0111-4668-B812-E5724C39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90CD7-8353-4BFB-A168-0FB85558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70ABB-9445-4188-B551-2312F23B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806CA-17B5-423B-ACA6-24150B06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81A43-4075-4E21-A3B1-B81FA0C1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33C12-0A4C-428A-AC47-466C42E4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CE768-00AB-436E-96B6-B4FEF8B3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C63A-194E-4052-9519-6ABE50E2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5951C-E9B4-4B66-923D-D5C0980F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C947F-2F42-4248-A3F7-43028E0B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EB657-0494-4FAA-92C1-97DB840D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F1CFF-656C-4ECB-BF89-2F28037A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16B0C-C42A-44A5-84C2-BDBBD42A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C3404-C760-4191-B6E9-4342DF8C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81F85-7A84-4CBC-AB3D-AC718853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A7A6F-813B-4B69-AB8F-AFC5AD90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7B976-F793-4D81-A5D4-A82FF37E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C67D0-7038-4A7E-A6DE-237597E5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9E4F-5BF8-4E88-A54C-82B85B18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2D8C8-5523-429C-8E4E-1C4D1EC9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3E6DF-750D-4ADE-8031-0B5557B4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9ED3D-2DE9-414C-A625-4152384F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15F57-FB1C-4B9E-9F0A-13FA76F2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21DE9-2577-4732-8C51-6EED2674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4A995-EEDE-4D44-8DC5-B5C2FCE2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98CD2-164B-4F06-8EE3-2A46BB0B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DC627-D22F-4140-8E9E-A2BD3147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E2FED-7806-4806-AB9C-4094ED83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07C2A-C15E-438C-8C76-E789F364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9B82-3835-44CC-9140-9A0209F1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33502-D4EE-4A02-A375-14CEB87D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F93E3-E59F-4240-82F3-E1927AE0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DBADD-3656-45D8-AB4B-72FA2F70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B1EE5-2E7C-4B31-848E-7665C141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10A60-664B-41CB-8788-6D31A4D7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A3B7-D874-4F2D-9AA9-409B6937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2BF4-7CA3-48FF-87FB-06555819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837A-0D2F-4770-9DBD-93285E05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7928-7A1C-4F47-BF8D-F67F78EC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2AED-1F7E-487B-9E57-4731F3A5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3A2-D0F6-4206-A62C-EB3097FD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46FC-DDF4-460B-A747-BF09186E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5767-612F-4485-AC71-81F6448C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73EE-DD3C-4B45-8464-5F3AE9FD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1E85-BD2B-4B80-8966-FC6EA35E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FCC2-1669-43FE-9C67-09BAB251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F32B0-AD58-4A43-AF57-9A31E055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18B16-6B40-4C08-B23A-1C9B8BD5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FE143-8DA0-4D37-B64A-B9582AE4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E678D-AC98-4ACF-BDC2-696EDEE2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29079-0B03-42E2-8069-C167DE04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91ED-E9DE-42CE-B42D-9CDDAA77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54C93-8E48-49B7-9957-12913C32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C3332-6B66-4C03-879C-6DB006D3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4BD17-A0CC-41BC-8BEF-51E5740F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E9B5B-4936-4748-BCF4-B093C780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F43AF-A02E-4520-AB81-D2176C76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59D85-A1C9-4794-A725-EE6964F6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42472-2C73-4A4B-AB0D-B72A08E1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A0FE4-C3C3-46B0-9459-E5CA27B0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9FCE5-515D-46A4-8B70-76E00F59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CE4ED-70E2-44D2-94B9-21A85A67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36A5-B65D-4385-B411-405148AC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4681F-4B77-4DD3-A534-A5790BF5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224BD-90C1-44CE-B985-B33DAB2E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70F67-E650-4A68-9C32-D61A2010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7FD3C-90FE-4EDA-A747-D2EABABD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25287-E298-4ED2-B3B2-F93F3D32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44C9B-60EE-4A99-8ABC-DEF86819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70AE0-8FD5-4417-8904-E18711C9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89640-B872-4BC4-851E-A5B48FA6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D337C-54EA-4640-AFFB-C9071609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FEAA5-56EB-47AE-AE9F-54195055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24F5-3255-4E6D-ACF3-8BC388DA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0277B-7490-404F-8284-E1A1844E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A03D2-61EE-44AF-ACBA-A8D7AF77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DAF15-AB86-48F8-93B3-CFCF2B8F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C64DE-6D3A-4752-9A9B-A4B348FF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A0017-832B-437A-B44E-D4AAB240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C7B6B-4F39-4063-A4B0-B3D47D6B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2D345-157C-42AE-9F3C-A1518D28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3FFEC-8470-4F0C-A3BA-5C5000E8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7327B-3987-4F8A-91EF-6FBF64C0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F9261-41EF-44F4-A952-898F175A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96B-E375-475F-8CAA-562AA7A7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42DF1-024C-4BCA-878F-2C9817C1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68AAD-FD72-4B6D-AECE-972B8439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2132E-D692-48E0-BDD9-7958258F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48466-EB64-48F6-BB56-ACC49413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51467-8B04-4129-A315-993D57CE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9BCD1-6F57-459C-84C1-ABB4DF17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9DE5D-3C3A-4340-B359-428B3D2B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ED213-445D-4D71-B320-38C56201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E91D4-4564-47B2-B245-40DF0AAD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D15FA-2391-4606-A9D0-6A3AA0C5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C76-2534-40CF-AD21-C38597BE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F596D-5FC5-41CA-938B-B70CBAF5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90491-AF78-4CDC-B9AC-7B26DEA8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F650C-498A-4C71-AE7F-41B79F2A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A02E1-AB5E-43FD-AEA4-905D0876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E66FD-A374-4E50-803E-6CF025B9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5F786-EB81-4CA3-871F-0F15109E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1E104-2391-4171-9B24-A6726A38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D3D29-01CA-46AE-B590-4A60A1B0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FDB51-6D50-4F70-A645-00141D55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B9DE4-2434-46BE-BD4C-A24B8459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C747-2D8A-4933-AD52-CB542A53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1B15A-D3AE-40E5-AC6F-5B9B412E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FA31E-BFE2-4BB7-8390-7A357BFB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5189E-7630-4561-A28E-905069A2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9FA96-1A57-4D74-A66E-89F25A8B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19A7A-9695-451B-9DBE-DEC35047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7CCD3-1125-45FE-9781-0AFEB588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BEB2D-D7DF-4DAC-BB6C-05C91E3B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C236E-8A78-48FB-B74D-FA470F4B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BEB5D-85C6-413A-A409-2A00744E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FCAE7-B948-4F7E-8DD1-74898411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7CA5-7913-40A2-BC2F-5DC89AD0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1A9FB-45FD-4256-A05A-187585E9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FF647-87B1-4CED-BD54-6796B6C7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6FF64-9CCF-4CBF-80C5-106BE73E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32DDD-0977-4E05-99A4-852CA7AE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D333B-1731-4C1B-93CB-FF5492BE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56C41-2ED6-42AB-BE91-76A920EA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75D2F-16FC-4D2D-8D6D-B4DE957C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94E65-F701-4D55-BD81-BC79D7B8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213E1-A8F7-43C1-B476-02F9AAEA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B246D-1506-4534-A891-05313F24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EAE9-813B-44F1-B692-C55805F5E52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E9DC-AFDB-486A-B61B-EDA8EF96955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F754-6B47-4DC0-AB18-D0F807F7E2C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5F02-3A06-4C16-8AF2-2EA0EE0D0E5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4FDA-C7DB-445E-82CF-10067F200A9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07A5-C9DF-4AA4-8627-BE8394B6D2B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58E3-E900-411F-83BF-BF1AB67D344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F18A-CA42-46B5-9F08-B9B26AC12AE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FD7E-DDC5-480E-973B-8F63F0DD5EB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0718-9225-46ED-9BF3-52F92CA8E67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687E-620C-406B-986C-D9555EA9E12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C538-DFB2-4683-8968-8FE3CF8DBBC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17 Kto v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vie, čo meno Ježi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hriešnych znamená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sám Bo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ám sa skláň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á láska nesmier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o naše hriechy, vin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 na kríž pribi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kvôli nám tak trpe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yn Boží, premil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neraz mnohý poču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a spásu dať chce ná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ak nechce tomu ver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o tme blúdi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prijať Krista váh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kto ho odmie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odchádza vždy ďale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zdroja živo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 ty choď verne za ní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jeho rady dba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 každom čase k neb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rak viery obrac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en má pokoj pravý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ždy sa rad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v Kristu nádej sklad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Boha miluj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6:32:28Z</dcterms:modified>
  <cp:revision>21</cp:revision>
  <dc:subject/>
  <dc:title>Je veľký náš Pán, on slávy je Kráľ Nech do všetkých strán  spev vrúcnych znie chvál.</dc:title>
</cp:coreProperties>
</file>